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3D9-6118-40CC-AD98-0FC58639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8D04-E4D4-4DD7-9220-6F41BB65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14C-4E32-486C-B1E1-669F0D58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8509-DE12-46B5-A382-8BE910FF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41AD-F879-4E97-9D59-64F98AAE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4D54-6C6D-4E36-B641-C4D052E7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ED97-4841-4F68-8C12-AF26D505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ECDD-7232-4C67-BE72-2E57048E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F20-4258-4177-8C28-F7DFB257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4B52-7EBA-4DE0-AB8A-EAFF7229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9A7C-DCD1-4920-BDFF-E1CA8ACF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9A72-A700-4941-89D7-29239E95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6702-C71A-4155-8F64-3ED0E56D7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971800" y="76320"/>
            <a:ext cx="5486400" cy="88560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44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45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49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53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58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63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67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71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75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876920" y="173664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Who …… 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81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82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86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90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96" name=""/>
          <p:cNvSpPr/>
          <p:nvPr/>
        </p:nvSpPr>
        <p:spPr>
          <a:xfrm rot="601200">
            <a:off x="3428640" y="266652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1600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534200" y="2747160"/>
            <a:ext cx="4083840" cy="3749040"/>
            <a:chOff x="4534200" y="2747160"/>
            <a:chExt cx="4083840" cy="3749040"/>
          </a:xfrm>
        </p:grpSpPr>
        <p:grpSp>
          <p:nvGrpSpPr>
            <p:cNvPr id="101" name=""/>
            <p:cNvGrpSpPr/>
            <p:nvPr/>
          </p:nvGrpSpPr>
          <p:grpSpPr>
            <a:xfrm>
              <a:off x="4940280" y="2936880"/>
              <a:ext cx="3677760" cy="2539800"/>
              <a:chOff x="4940280" y="2936880"/>
              <a:chExt cx="3677760" cy="2539800"/>
            </a:xfrm>
          </p:grpSpPr>
          <p:sp>
            <p:nvSpPr>
              <p:cNvPr id="102" name=""/>
              <p:cNvSpPr/>
              <p:nvPr/>
            </p:nvSpPr>
            <p:spPr>
              <a:xfrm>
                <a:off x="4940280" y="4113000"/>
                <a:ext cx="1679400" cy="109692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542280" y="446616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526080" y="2936880"/>
                <a:ext cx="2091960" cy="205812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5056920" y="3007800"/>
                <a:ext cx="266040" cy="898560"/>
                <a:chOff x="5056920" y="3007800"/>
                <a:chExt cx="266040" cy="8985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5123520" y="3274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056920" y="3141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123520" y="3007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056920" y="3407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123520" y="3541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224320" y="34747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256360" y="3674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90920" y="387468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7903440" y="3287880"/>
                <a:ext cx="531360" cy="783720"/>
                <a:chOff x="7903440" y="3287880"/>
                <a:chExt cx="531360" cy="783720"/>
              </a:xfrm>
            </p:grpSpPr>
            <p:sp>
              <p:nvSpPr>
                <p:cNvPr id="115" name=""/>
                <p:cNvSpPr/>
                <p:nvPr/>
              </p:nvSpPr>
              <p:spPr>
                <a:xfrm flipH="1" rot="1320000">
                  <a:off x="8287200" y="3540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 rot="1320000">
                  <a:off x="8398440" y="3441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 rot="1320000">
                  <a:off x="8386560" y="3292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 rot="1320000">
                  <a:off x="8297640" y="3688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 rot="1320000">
                  <a:off x="8187120" y="37879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1320000">
                  <a:off x="8119800" y="3688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 rot="1320000">
                  <a:off x="8015400" y="3862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 rot="1320000">
                  <a:off x="7907760" y="4035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045400" y="4642920"/>
                <a:ext cx="829080" cy="451440"/>
                <a:chOff x="5045400" y="4642920"/>
                <a:chExt cx="829080" cy="451440"/>
              </a:xfrm>
            </p:grpSpPr>
            <p:sp>
              <p:nvSpPr>
                <p:cNvPr id="124" name=""/>
                <p:cNvSpPr/>
                <p:nvPr/>
              </p:nvSpPr>
              <p:spPr>
                <a:xfrm rot="18501600">
                  <a:off x="5260680" y="4814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8501600">
                  <a:off x="5114880" y="4784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501600">
                  <a:off x="5051880" y="46490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501600">
                  <a:off x="5324400" y="4949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501600">
                  <a:off x="5470200" y="4980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501600">
                  <a:off x="5481000" y="48592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501600">
                  <a:off x="5657400" y="4958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501600">
                  <a:off x="5835960" y="505584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164360" y="5061600"/>
                <a:ext cx="892800" cy="294840"/>
                <a:chOff x="7164360" y="5061600"/>
                <a:chExt cx="892800" cy="294840"/>
              </a:xfrm>
            </p:grpSpPr>
            <p:sp>
              <p:nvSpPr>
                <p:cNvPr id="133" name=""/>
                <p:cNvSpPr/>
                <p:nvPr/>
              </p:nvSpPr>
              <p:spPr>
                <a:xfrm flipH="1" rot="5538600">
                  <a:off x="7758000" y="5252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 rot="5538600">
                  <a:off x="7888320" y="53240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 rot="5538600">
                  <a:off x="8024040" y="5263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rot="5538600">
                  <a:off x="7621560" y="53132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rot="5538600">
                  <a:off x="7491600" y="5241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 rot="5538600">
                  <a:off x="7562160" y="51444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 rot="5538600">
                  <a:off x="7363800" y="51048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 rot="5538600">
                  <a:off x="7164720" y="5062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180920" y="4161960"/>
                <a:ext cx="866880" cy="381960"/>
                <a:chOff x="7180920" y="4161960"/>
                <a:chExt cx="866880" cy="381960"/>
              </a:xfrm>
            </p:grpSpPr>
            <p:sp>
              <p:nvSpPr>
                <p:cNvPr id="142" name=""/>
                <p:cNvSpPr/>
                <p:nvPr/>
              </p:nvSpPr>
              <p:spPr>
                <a:xfrm rot="4866600">
                  <a:off x="7750080" y="4250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4866600">
                  <a:off x="7871400" y="41641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4866600">
                  <a:off x="8013240" y="4208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4866600">
                  <a:off x="7607880" y="4204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4866600">
                  <a:off x="7486560" y="429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4866600">
                  <a:off x="7567920" y="438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rot="4866600">
                  <a:off x="7375680" y="4444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rot="4866600">
                  <a:off x="7182720" y="4509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 flipH="1" rot="867000">
              <a:off x="4724280" y="2991960"/>
              <a:ext cx="2190960" cy="180180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5"/>
            <a:stretch/>
          </p:blipFill>
          <p:spPr>
            <a:xfrm>
              <a:off x="5334120" y="2895480"/>
              <a:ext cx="2619360" cy="360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380880" y="16002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tretch/>
        </p:blipFill>
        <p:spPr>
          <a:xfrm>
            <a:off x="3486240" y="2209680"/>
            <a:ext cx="1314360" cy="164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0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971800" y="76320"/>
            <a:ext cx="5486400" cy="88560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161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162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166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170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175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180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184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188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192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876920" y="152388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…… 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you grandp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198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199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207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213" name=""/>
          <p:cNvSpPr/>
          <p:nvPr/>
        </p:nvSpPr>
        <p:spPr>
          <a:xfrm rot="601200">
            <a:off x="3428640" y="266652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13716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534200" y="2747160"/>
            <a:ext cx="4083840" cy="3749040"/>
            <a:chOff x="4534200" y="2747160"/>
            <a:chExt cx="4083840" cy="3749040"/>
          </a:xfrm>
        </p:grpSpPr>
        <p:grpSp>
          <p:nvGrpSpPr>
            <p:cNvPr id="218" name=""/>
            <p:cNvGrpSpPr/>
            <p:nvPr/>
          </p:nvGrpSpPr>
          <p:grpSpPr>
            <a:xfrm>
              <a:off x="4940280" y="2936880"/>
              <a:ext cx="3677760" cy="2539800"/>
              <a:chOff x="4940280" y="2936880"/>
              <a:chExt cx="3677760" cy="2539800"/>
            </a:xfrm>
          </p:grpSpPr>
          <p:sp>
            <p:nvSpPr>
              <p:cNvPr id="219" name=""/>
              <p:cNvSpPr/>
              <p:nvPr/>
            </p:nvSpPr>
            <p:spPr>
              <a:xfrm>
                <a:off x="4940280" y="4113000"/>
                <a:ext cx="1679400" cy="109692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542280" y="446616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526080" y="2936880"/>
                <a:ext cx="2091960" cy="205812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5056920" y="3007800"/>
                <a:ext cx="266040" cy="898560"/>
                <a:chOff x="5056920" y="3007800"/>
                <a:chExt cx="266040" cy="8985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5123520" y="3274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056920" y="3141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123520" y="3007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056920" y="3407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123520" y="3541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224320" y="34747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256360" y="3674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290920" y="387468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7903440" y="3287880"/>
                <a:ext cx="531360" cy="783720"/>
                <a:chOff x="7903440" y="3287880"/>
                <a:chExt cx="531360" cy="783720"/>
              </a:xfrm>
            </p:grpSpPr>
            <p:sp>
              <p:nvSpPr>
                <p:cNvPr id="232" name=""/>
                <p:cNvSpPr/>
                <p:nvPr/>
              </p:nvSpPr>
              <p:spPr>
                <a:xfrm flipH="1" rot="1320000">
                  <a:off x="8287200" y="3540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rot="1320000">
                  <a:off x="8398440" y="34412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rot="1320000">
                  <a:off x="8386560" y="3292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 rot="1320000">
                  <a:off x="8297640" y="3688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1320000">
                  <a:off x="8187120" y="37879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1320000">
                  <a:off x="8119800" y="3688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rot="1320000">
                  <a:off x="8015400" y="3862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 rot="1320000">
                  <a:off x="7907760" y="4035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045400" y="4642920"/>
                <a:ext cx="829080" cy="451440"/>
                <a:chOff x="5045400" y="4642920"/>
                <a:chExt cx="829080" cy="451440"/>
              </a:xfrm>
            </p:grpSpPr>
            <p:sp>
              <p:nvSpPr>
                <p:cNvPr id="241" name=""/>
                <p:cNvSpPr/>
                <p:nvPr/>
              </p:nvSpPr>
              <p:spPr>
                <a:xfrm rot="18501600">
                  <a:off x="5260680" y="4814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18501600">
                  <a:off x="5114880" y="4784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18501600">
                  <a:off x="5051880" y="46490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8501600">
                  <a:off x="5324400" y="4949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18501600">
                  <a:off x="5470200" y="4980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18501600">
                  <a:off x="5481000" y="48592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18501600">
                  <a:off x="5657400" y="4958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18501600">
                  <a:off x="5835960" y="505584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7164360" y="5061600"/>
                <a:ext cx="892800" cy="294840"/>
                <a:chOff x="7164360" y="5061600"/>
                <a:chExt cx="892800" cy="294840"/>
              </a:xfrm>
            </p:grpSpPr>
            <p:sp>
              <p:nvSpPr>
                <p:cNvPr id="250" name=""/>
                <p:cNvSpPr/>
                <p:nvPr/>
              </p:nvSpPr>
              <p:spPr>
                <a:xfrm flipH="1" rot="5538600">
                  <a:off x="7758000" y="5252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 rot="5538600">
                  <a:off x="7888320" y="53240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rot="5538600">
                  <a:off x="8024040" y="52635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 rot="5538600">
                  <a:off x="7621560" y="53132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 rot="5538600">
                  <a:off x="7491600" y="5241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 rot="5538600">
                  <a:off x="7562160" y="51444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 rot="5538600">
                  <a:off x="7363800" y="51048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rot="5538600">
                  <a:off x="7164720" y="50623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7180920" y="4161960"/>
                <a:ext cx="866880" cy="381960"/>
                <a:chOff x="7180920" y="4161960"/>
                <a:chExt cx="866880" cy="381960"/>
              </a:xfrm>
            </p:grpSpPr>
            <p:sp>
              <p:nvSpPr>
                <p:cNvPr id="259" name=""/>
                <p:cNvSpPr/>
                <p:nvPr/>
              </p:nvSpPr>
              <p:spPr>
                <a:xfrm rot="4866600">
                  <a:off x="7750080" y="4250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4866600">
                  <a:off x="7871400" y="41641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4866600">
                  <a:off x="8013240" y="42087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4866600">
                  <a:off x="7607880" y="42048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4866600">
                  <a:off x="7486560" y="429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4866600">
                  <a:off x="7567920" y="4381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4866600">
                  <a:off x="7375680" y="4444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4866600">
                  <a:off x="7182720" y="4509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7" name=""/>
            <p:cNvSpPr/>
            <p:nvPr/>
          </p:nvSpPr>
          <p:spPr>
            <a:xfrm flipH="1" rot="867000">
              <a:off x="4724280" y="2991960"/>
              <a:ext cx="2190960" cy="180180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5"/>
            <a:stretch/>
          </p:blipFill>
          <p:spPr>
            <a:xfrm>
              <a:off x="5334120" y="2895480"/>
              <a:ext cx="2619360" cy="360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380880" y="16002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1"/>
          <a:stretch/>
        </p:blipFill>
        <p:spPr>
          <a:xfrm>
            <a:off x="3486240" y="2209680"/>
            <a:ext cx="1314360" cy="164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9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2971800" y="76320"/>
            <a:ext cx="5486400" cy="88560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278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279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283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287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292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297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301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305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309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876920" y="160020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I …… Maya’s broth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315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316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320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324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330" name=""/>
          <p:cNvSpPr/>
          <p:nvPr/>
        </p:nvSpPr>
        <p:spPr>
          <a:xfrm rot="601200">
            <a:off x="3428640" y="266652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14320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534200" y="2880360"/>
            <a:ext cx="4083840" cy="3749040"/>
            <a:chOff x="4534200" y="2880360"/>
            <a:chExt cx="4083840" cy="3749040"/>
          </a:xfrm>
        </p:grpSpPr>
        <p:grpSp>
          <p:nvGrpSpPr>
            <p:cNvPr id="335" name=""/>
            <p:cNvGrpSpPr/>
            <p:nvPr/>
          </p:nvGrpSpPr>
          <p:grpSpPr>
            <a:xfrm>
              <a:off x="4940280" y="3070080"/>
              <a:ext cx="3677760" cy="2539800"/>
              <a:chOff x="4940280" y="3070080"/>
              <a:chExt cx="3677760" cy="2539800"/>
            </a:xfrm>
          </p:grpSpPr>
          <p:sp>
            <p:nvSpPr>
              <p:cNvPr id="336" name=""/>
              <p:cNvSpPr/>
              <p:nvPr/>
            </p:nvSpPr>
            <p:spPr>
              <a:xfrm>
                <a:off x="4940280" y="4245840"/>
                <a:ext cx="1679400" cy="109656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542280" y="459936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526080" y="3070080"/>
                <a:ext cx="2091960" cy="205776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" name=""/>
              <p:cNvGrpSpPr/>
              <p:nvPr/>
            </p:nvGrpSpPr>
            <p:grpSpPr>
              <a:xfrm>
                <a:off x="5056920" y="3141000"/>
                <a:ext cx="266040" cy="898200"/>
                <a:chOff x="5056920" y="3141000"/>
                <a:chExt cx="266040" cy="8982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5123520" y="34077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056920" y="3274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123520" y="31410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056920" y="35409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123520" y="36745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224320" y="3607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256360" y="38077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290920" y="400752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7903440" y="3421080"/>
                <a:ext cx="531000" cy="783360"/>
                <a:chOff x="7903440" y="3421080"/>
                <a:chExt cx="531000" cy="783360"/>
              </a:xfrm>
            </p:grpSpPr>
            <p:sp>
              <p:nvSpPr>
                <p:cNvPr id="349" name=""/>
                <p:cNvSpPr/>
                <p:nvPr/>
              </p:nvSpPr>
              <p:spPr>
                <a:xfrm flipH="1" rot="1320000">
                  <a:off x="8287200" y="367308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rot="1320000">
                  <a:off x="8398080" y="3574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rot="1320000">
                  <a:off x="8386560" y="34257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 rot="1320000">
                  <a:off x="8297640" y="38217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rot="1320000">
                  <a:off x="8187120" y="3920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1320000">
                  <a:off x="8119800" y="3821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 rot="1320000">
                  <a:off x="8015400" y="399528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 rot="1320000">
                  <a:off x="7907760" y="4168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5045400" y="4775760"/>
                <a:ext cx="829080" cy="451440"/>
                <a:chOff x="5045400" y="4775760"/>
                <a:chExt cx="829080" cy="451440"/>
              </a:xfrm>
            </p:grpSpPr>
            <p:sp>
              <p:nvSpPr>
                <p:cNvPr id="358" name=""/>
                <p:cNvSpPr/>
                <p:nvPr/>
              </p:nvSpPr>
              <p:spPr>
                <a:xfrm rot="18501600">
                  <a:off x="5260680" y="49474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rot="18501600">
                  <a:off x="5114880" y="49168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rot="18501600">
                  <a:off x="5051880" y="47818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rot="18501600">
                  <a:off x="5324400" y="50824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18501600">
                  <a:off x="5470200" y="5113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rot="18501600">
                  <a:off x="5481000" y="49921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18501600">
                  <a:off x="5657400" y="50914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rot="18501600">
                  <a:off x="5835960" y="518868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7164360" y="5194080"/>
                <a:ext cx="892800" cy="294480"/>
                <a:chOff x="7164360" y="5194080"/>
                <a:chExt cx="892800" cy="294480"/>
              </a:xfrm>
            </p:grpSpPr>
            <p:sp>
              <p:nvSpPr>
                <p:cNvPr id="367" name=""/>
                <p:cNvSpPr/>
                <p:nvPr/>
              </p:nvSpPr>
              <p:spPr>
                <a:xfrm flipH="1" rot="5538600">
                  <a:off x="7758000" y="538488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 rot="5538600">
                  <a:off x="7888680" y="54561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H="1" rot="5538600">
                  <a:off x="8024040" y="539568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 rot="5538600">
                  <a:off x="7621560" y="54453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 rot="5538600">
                  <a:off x="7491600" y="537408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rot="5538600">
                  <a:off x="7562160" y="52765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 rot="5538600">
                  <a:off x="7363800" y="523728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 rot="5538600">
                  <a:off x="7164720" y="51948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7180920" y="4294800"/>
                <a:ext cx="866880" cy="381600"/>
                <a:chOff x="7180920" y="4294800"/>
                <a:chExt cx="866880" cy="381600"/>
              </a:xfrm>
            </p:grpSpPr>
            <p:sp>
              <p:nvSpPr>
                <p:cNvPr id="376" name=""/>
                <p:cNvSpPr/>
                <p:nvPr/>
              </p:nvSpPr>
              <p:spPr>
                <a:xfrm rot="4866600">
                  <a:off x="7750080" y="4383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4866600">
                  <a:off x="7871400" y="42969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4866600">
                  <a:off x="8013240" y="434160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4866600">
                  <a:off x="7607880" y="4337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4866600">
                  <a:off x="7486560" y="44244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4866600">
                  <a:off x="7568280" y="45144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rot="4866600">
                  <a:off x="7375680" y="45766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4866600">
                  <a:off x="7182720" y="464184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4" name=""/>
            <p:cNvSpPr/>
            <p:nvPr/>
          </p:nvSpPr>
          <p:spPr>
            <a:xfrm flipH="1" rot="867000">
              <a:off x="4724280" y="3125160"/>
              <a:ext cx="2190960" cy="180144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5"/>
            <a:stretch/>
          </p:blipFill>
          <p:spPr>
            <a:xfrm>
              <a:off x="5334120" y="3029040"/>
              <a:ext cx="2619360" cy="360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6" name="" descr=""/>
          <p:cNvPicPr/>
          <p:nvPr/>
        </p:nvPicPr>
        <p:blipFill>
          <a:blip r:embed="rId6"/>
          <a:stretch/>
        </p:blipFill>
        <p:spPr>
          <a:xfrm>
            <a:off x="380880" y="16002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11"/>
          <a:stretch/>
        </p:blipFill>
        <p:spPr>
          <a:xfrm>
            <a:off x="3486240" y="2209680"/>
            <a:ext cx="1314360" cy="164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50" autoRev="1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7" dur="250" autoRev="1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" dur="250" autoRev="1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50" autoRev="1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3" dur="250" autoRev="1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" dur="250" autoRev="1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2971800" y="104760"/>
            <a:ext cx="5486400" cy="885960"/>
          </a:xfrm>
          <a:prstGeom prst="rect">
            <a:avLst/>
          </a:prstGeom>
          <a:ln w="0">
            <a:noFill/>
          </a:ln>
        </p:spPr>
      </p:pic>
      <p:grpSp>
        <p:nvGrpSpPr>
          <p:cNvPr id="394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395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396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400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404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409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414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418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422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426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4876920" y="137160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I …… Maya’s grandfath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432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433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437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441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447" name=""/>
          <p:cNvSpPr/>
          <p:nvPr/>
        </p:nvSpPr>
        <p:spPr>
          <a:xfrm rot="601200">
            <a:off x="3428640" y="266652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1219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534200" y="2804040"/>
            <a:ext cx="4083840" cy="3749040"/>
            <a:chOff x="4534200" y="2804040"/>
            <a:chExt cx="4083840" cy="3749040"/>
          </a:xfrm>
        </p:grpSpPr>
        <p:grpSp>
          <p:nvGrpSpPr>
            <p:cNvPr id="452" name=""/>
            <p:cNvGrpSpPr/>
            <p:nvPr/>
          </p:nvGrpSpPr>
          <p:grpSpPr>
            <a:xfrm>
              <a:off x="4940280" y="2993760"/>
              <a:ext cx="3677760" cy="2539800"/>
              <a:chOff x="4940280" y="2993760"/>
              <a:chExt cx="3677760" cy="2539800"/>
            </a:xfrm>
          </p:grpSpPr>
          <p:sp>
            <p:nvSpPr>
              <p:cNvPr id="453" name=""/>
              <p:cNvSpPr/>
              <p:nvPr/>
            </p:nvSpPr>
            <p:spPr>
              <a:xfrm>
                <a:off x="4940280" y="4169520"/>
                <a:ext cx="1679400" cy="109656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542280" y="452304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526080" y="2993760"/>
                <a:ext cx="2091960" cy="205776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"/>
              <p:cNvGrpSpPr/>
              <p:nvPr/>
            </p:nvGrpSpPr>
            <p:grpSpPr>
              <a:xfrm>
                <a:off x="5056920" y="3064680"/>
                <a:ext cx="266040" cy="898200"/>
                <a:chOff x="5056920" y="3064680"/>
                <a:chExt cx="266040" cy="89820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5123520" y="33314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056920" y="31978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123520" y="30646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056920" y="3464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123520" y="3598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224320" y="3531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256360" y="37314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290920" y="393120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7903440" y="3344760"/>
                <a:ext cx="531000" cy="783360"/>
                <a:chOff x="7903440" y="3344760"/>
                <a:chExt cx="531000" cy="783360"/>
              </a:xfrm>
            </p:grpSpPr>
            <p:sp>
              <p:nvSpPr>
                <p:cNvPr id="466" name=""/>
                <p:cNvSpPr/>
                <p:nvPr/>
              </p:nvSpPr>
              <p:spPr>
                <a:xfrm flipH="1" rot="1320000">
                  <a:off x="8287200" y="3596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 rot="1320000">
                  <a:off x="8398080" y="34981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 rot="1320000">
                  <a:off x="8386560" y="33494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 rot="1320000">
                  <a:off x="8297640" y="37454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 rot="1320000">
                  <a:off x="8187120" y="3844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 rot="1320000">
                  <a:off x="8119800" y="3745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 rot="1320000">
                  <a:off x="8015400" y="3918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rot="1320000">
                  <a:off x="7907760" y="40917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5045400" y="4699440"/>
                <a:ext cx="829080" cy="451440"/>
                <a:chOff x="5045400" y="4699440"/>
                <a:chExt cx="829080" cy="451440"/>
              </a:xfrm>
            </p:grpSpPr>
            <p:sp>
              <p:nvSpPr>
                <p:cNvPr id="475" name=""/>
                <p:cNvSpPr/>
                <p:nvPr/>
              </p:nvSpPr>
              <p:spPr>
                <a:xfrm rot="18501600">
                  <a:off x="5260680" y="48711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rot="18501600">
                  <a:off x="5114880" y="4840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rot="18501600">
                  <a:off x="5051880" y="47055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rot="18501600">
                  <a:off x="5324400" y="50061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rot="18501600">
                  <a:off x="5470200" y="50367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rot="18501600">
                  <a:off x="5481000" y="49158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rot="18501600">
                  <a:off x="5657400" y="50151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rot="18501600">
                  <a:off x="5835960" y="5112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7164360" y="5117760"/>
                <a:ext cx="892800" cy="294480"/>
                <a:chOff x="7164360" y="5117760"/>
                <a:chExt cx="892800" cy="294480"/>
              </a:xfrm>
            </p:grpSpPr>
            <p:sp>
              <p:nvSpPr>
                <p:cNvPr id="484" name=""/>
                <p:cNvSpPr/>
                <p:nvPr/>
              </p:nvSpPr>
              <p:spPr>
                <a:xfrm flipH="1" rot="5538600">
                  <a:off x="7758000" y="5308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 rot="5538600">
                  <a:off x="7888680" y="53798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 rot="5538600">
                  <a:off x="8024040" y="53193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 rot="5538600">
                  <a:off x="7621560" y="53690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 rot="5538600">
                  <a:off x="7491600" y="5297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 rot="5538600">
                  <a:off x="7562160" y="52002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 rot="5538600">
                  <a:off x="7363800" y="5160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 rot="5538600">
                  <a:off x="7164720" y="51184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7180920" y="4218480"/>
                <a:ext cx="866880" cy="381600"/>
                <a:chOff x="7180920" y="4218480"/>
                <a:chExt cx="866880" cy="381600"/>
              </a:xfrm>
            </p:grpSpPr>
            <p:sp>
              <p:nvSpPr>
                <p:cNvPr id="493" name=""/>
                <p:cNvSpPr/>
                <p:nvPr/>
              </p:nvSpPr>
              <p:spPr>
                <a:xfrm rot="4866600">
                  <a:off x="7750080" y="4307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rot="4866600">
                  <a:off x="7871400" y="4220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rot="4866600">
                  <a:off x="8013240" y="42652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rot="4866600">
                  <a:off x="7607880" y="426132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rot="4866600">
                  <a:off x="7486560" y="4348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rot="4866600">
                  <a:off x="7568280" y="4438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4866600">
                  <a:off x="7375680" y="4500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4866600">
                  <a:off x="7182720" y="456552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"/>
            <p:cNvSpPr/>
            <p:nvPr/>
          </p:nvSpPr>
          <p:spPr>
            <a:xfrm flipH="1" rot="867000">
              <a:off x="4724280" y="3048840"/>
              <a:ext cx="2190960" cy="180144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" descr=""/>
            <p:cNvPicPr/>
            <p:nvPr/>
          </p:nvPicPr>
          <p:blipFill>
            <a:blip r:embed="rId5"/>
            <a:stretch/>
          </p:blipFill>
          <p:spPr>
            <a:xfrm>
              <a:off x="5334120" y="2952720"/>
              <a:ext cx="2619360" cy="360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3" name="" descr=""/>
          <p:cNvPicPr/>
          <p:nvPr/>
        </p:nvPicPr>
        <p:blipFill>
          <a:blip r:embed="rId6"/>
          <a:stretch/>
        </p:blipFill>
        <p:spPr>
          <a:xfrm>
            <a:off x="380880" y="16002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11"/>
          <a:stretch/>
        </p:blipFill>
        <p:spPr>
          <a:xfrm>
            <a:off x="2990880" y="2333520"/>
            <a:ext cx="1657440" cy="1552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250" autoRev="1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5" dur="250" autoRev="1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" dur="250" autoRev="1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50" autoRev="1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1" dur="250" autoRev="1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" dur="250" autoRev="1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2971800" y="104760"/>
            <a:ext cx="5486400" cy="885960"/>
          </a:xfrm>
          <a:prstGeom prst="rect">
            <a:avLst/>
          </a:prstGeom>
          <a:ln w="0">
            <a:noFill/>
          </a:ln>
        </p:spPr>
      </p:pic>
      <p:grpSp>
        <p:nvGrpSpPr>
          <p:cNvPr id="511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512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513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517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521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526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531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535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539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543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4572000" y="152388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She …… Maya’s grandmoth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549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550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554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558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1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564" name=""/>
          <p:cNvSpPr/>
          <p:nvPr/>
        </p:nvSpPr>
        <p:spPr>
          <a:xfrm rot="601200">
            <a:off x="3428640" y="266652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566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095880" y="13716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534200" y="2804040"/>
            <a:ext cx="4083840" cy="3749040"/>
            <a:chOff x="4534200" y="2804040"/>
            <a:chExt cx="4083840" cy="3749040"/>
          </a:xfrm>
        </p:grpSpPr>
        <p:grpSp>
          <p:nvGrpSpPr>
            <p:cNvPr id="569" name=""/>
            <p:cNvGrpSpPr/>
            <p:nvPr/>
          </p:nvGrpSpPr>
          <p:grpSpPr>
            <a:xfrm>
              <a:off x="4940280" y="2993760"/>
              <a:ext cx="3677760" cy="2539800"/>
              <a:chOff x="4940280" y="2993760"/>
              <a:chExt cx="3677760" cy="2539800"/>
            </a:xfrm>
          </p:grpSpPr>
          <p:sp>
            <p:nvSpPr>
              <p:cNvPr id="570" name=""/>
              <p:cNvSpPr/>
              <p:nvPr/>
            </p:nvSpPr>
            <p:spPr>
              <a:xfrm>
                <a:off x="4940280" y="4169520"/>
                <a:ext cx="1679400" cy="109656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542280" y="452304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526080" y="2993760"/>
                <a:ext cx="2091960" cy="205776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5056920" y="3064680"/>
                <a:ext cx="266040" cy="898200"/>
                <a:chOff x="5056920" y="3064680"/>
                <a:chExt cx="266040" cy="89820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5123520" y="33314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056920" y="31978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123520" y="30646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056920" y="3464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123520" y="3598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224320" y="3531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5256360" y="37314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290920" y="393120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7903440" y="3344760"/>
                <a:ext cx="531000" cy="783360"/>
                <a:chOff x="7903440" y="3344760"/>
                <a:chExt cx="531000" cy="783360"/>
              </a:xfrm>
            </p:grpSpPr>
            <p:sp>
              <p:nvSpPr>
                <p:cNvPr id="583" name=""/>
                <p:cNvSpPr/>
                <p:nvPr/>
              </p:nvSpPr>
              <p:spPr>
                <a:xfrm flipH="1" rot="1320000">
                  <a:off x="8287200" y="3596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flipH="1" rot="1320000">
                  <a:off x="8398080" y="34981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 rot="1320000">
                  <a:off x="8386560" y="33494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H="1" rot="1320000">
                  <a:off x="8297640" y="37454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H="1" rot="1320000">
                  <a:off x="8187120" y="3844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H="1" rot="1320000">
                  <a:off x="8119800" y="3745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H="1" rot="1320000">
                  <a:off x="8015400" y="3918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H="1" rot="1320000">
                  <a:off x="7907760" y="40917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5045400" y="4699440"/>
                <a:ext cx="829080" cy="451440"/>
                <a:chOff x="5045400" y="4699440"/>
                <a:chExt cx="829080" cy="451440"/>
              </a:xfrm>
            </p:grpSpPr>
            <p:sp>
              <p:nvSpPr>
                <p:cNvPr id="592" name=""/>
                <p:cNvSpPr/>
                <p:nvPr/>
              </p:nvSpPr>
              <p:spPr>
                <a:xfrm rot="18501600">
                  <a:off x="5260680" y="48711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rot="18501600">
                  <a:off x="5114880" y="4840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rot="18501600">
                  <a:off x="5051880" y="47055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rot="18501600">
                  <a:off x="5324400" y="50061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rot="18501600">
                  <a:off x="5470200" y="50367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rot="18501600">
                  <a:off x="5481000" y="49158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8501600">
                  <a:off x="5657400" y="50151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8501600">
                  <a:off x="5835960" y="5112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7164360" y="5117760"/>
                <a:ext cx="892800" cy="294480"/>
                <a:chOff x="7164360" y="5117760"/>
                <a:chExt cx="892800" cy="294480"/>
              </a:xfrm>
            </p:grpSpPr>
            <p:sp>
              <p:nvSpPr>
                <p:cNvPr id="601" name=""/>
                <p:cNvSpPr/>
                <p:nvPr/>
              </p:nvSpPr>
              <p:spPr>
                <a:xfrm flipH="1" rot="5538600">
                  <a:off x="7758000" y="5308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 rot="5538600">
                  <a:off x="7888680" y="53798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 rot="5538600">
                  <a:off x="8024040" y="53193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 rot="5538600">
                  <a:off x="7621560" y="53690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H="1" rot="5538600">
                  <a:off x="7491600" y="5297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H="1" rot="5538600">
                  <a:off x="7562160" y="52002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 rot="5538600">
                  <a:off x="7363800" y="5160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 rot="5538600">
                  <a:off x="7164720" y="51184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7180920" y="4218480"/>
                <a:ext cx="866880" cy="381600"/>
                <a:chOff x="7180920" y="4218480"/>
                <a:chExt cx="866880" cy="381600"/>
              </a:xfrm>
            </p:grpSpPr>
            <p:sp>
              <p:nvSpPr>
                <p:cNvPr id="610" name=""/>
                <p:cNvSpPr/>
                <p:nvPr/>
              </p:nvSpPr>
              <p:spPr>
                <a:xfrm rot="4866600">
                  <a:off x="7750080" y="4307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rot="4866600">
                  <a:off x="7871400" y="4220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rot="4866600">
                  <a:off x="8013240" y="42652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rot="4866600">
                  <a:off x="7607880" y="426132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rot="4866600">
                  <a:off x="7486560" y="4348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rot="4866600">
                  <a:off x="7568280" y="4438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rot="4866600">
                  <a:off x="7375680" y="4500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4866600">
                  <a:off x="7182720" y="456552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8" name=""/>
            <p:cNvSpPr/>
            <p:nvPr/>
          </p:nvSpPr>
          <p:spPr>
            <a:xfrm flipH="1" rot="867000">
              <a:off x="4724280" y="3048840"/>
              <a:ext cx="2190960" cy="180144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9" name="" descr=""/>
            <p:cNvPicPr/>
            <p:nvPr/>
          </p:nvPicPr>
          <p:blipFill>
            <a:blip r:embed="rId5"/>
            <a:stretch/>
          </p:blipFill>
          <p:spPr>
            <a:xfrm>
              <a:off x="5334120" y="2952720"/>
              <a:ext cx="2619360" cy="360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0" name="" descr=""/>
          <p:cNvPicPr/>
          <p:nvPr/>
        </p:nvPicPr>
        <p:blipFill>
          <a:blip r:embed="rId6"/>
          <a:stretch/>
        </p:blipFill>
        <p:spPr>
          <a:xfrm>
            <a:off x="380880" y="16002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11"/>
          <a:stretch/>
        </p:blipFill>
        <p:spPr>
          <a:xfrm>
            <a:off x="3352680" y="2314440"/>
            <a:ext cx="1495440" cy="1571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50" autoRev="1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2" dur="250" autoRev="1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3" dur="250" autoRev="1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5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9" dur="25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0" dur="25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76320" y="1295280"/>
            <a:ext cx="4647960" cy="3724560"/>
          </a:xfrm>
          <a:prstGeom prst="rect">
            <a:avLst/>
          </a:prstGeom>
          <a:ln w="0">
            <a:noFill/>
          </a:ln>
        </p:spPr>
      </p:pic>
      <p:grpSp>
        <p:nvGrpSpPr>
          <p:cNvPr id="627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628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629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633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637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0" name="" descr=""/>
          <p:cNvPicPr/>
          <p:nvPr/>
        </p:nvPicPr>
        <p:blipFill>
          <a:blip r:embed="rId3"/>
          <a:stretch/>
        </p:blipFill>
        <p:spPr>
          <a:xfrm>
            <a:off x="2971800" y="152280"/>
            <a:ext cx="5486400" cy="88452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643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648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652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656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660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572000" y="173664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They …… Maya’s paren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666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667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671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675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681" name=""/>
          <p:cNvSpPr/>
          <p:nvPr/>
        </p:nvSpPr>
        <p:spPr>
          <a:xfrm rot="601200">
            <a:off x="3428640" y="2590560"/>
            <a:ext cx="1066680" cy="12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601200">
            <a:off x="380520" y="2438280"/>
            <a:ext cx="106704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019920" y="1600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534200" y="2956680"/>
            <a:ext cx="4083840" cy="3749040"/>
            <a:chOff x="4534200" y="2956680"/>
            <a:chExt cx="4083840" cy="3749040"/>
          </a:xfrm>
        </p:grpSpPr>
        <p:grpSp>
          <p:nvGrpSpPr>
            <p:cNvPr id="687" name=""/>
            <p:cNvGrpSpPr/>
            <p:nvPr/>
          </p:nvGrpSpPr>
          <p:grpSpPr>
            <a:xfrm>
              <a:off x="4940280" y="3146400"/>
              <a:ext cx="3677760" cy="2539800"/>
              <a:chOff x="4940280" y="3146400"/>
              <a:chExt cx="3677760" cy="2539800"/>
            </a:xfrm>
          </p:grpSpPr>
          <p:sp>
            <p:nvSpPr>
              <p:cNvPr id="688" name=""/>
              <p:cNvSpPr/>
              <p:nvPr/>
            </p:nvSpPr>
            <p:spPr>
              <a:xfrm>
                <a:off x="4940280" y="4322520"/>
                <a:ext cx="1679400" cy="109692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542280" y="467568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526080" y="3146400"/>
                <a:ext cx="2091960" cy="205812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1" name=""/>
              <p:cNvGrpSpPr/>
              <p:nvPr/>
            </p:nvGrpSpPr>
            <p:grpSpPr>
              <a:xfrm>
                <a:off x="5056920" y="3217320"/>
                <a:ext cx="266040" cy="898560"/>
                <a:chOff x="5056920" y="3217320"/>
                <a:chExt cx="266040" cy="89856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123520" y="3484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056920" y="33508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123520" y="321732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056920" y="36172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123520" y="37508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224320" y="3684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256360" y="3884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290920" y="408420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903440" y="3497400"/>
                <a:ext cx="531360" cy="783720"/>
                <a:chOff x="7903440" y="3497400"/>
                <a:chExt cx="531360" cy="783720"/>
              </a:xfrm>
            </p:grpSpPr>
            <p:sp>
              <p:nvSpPr>
                <p:cNvPr id="701" name=""/>
                <p:cNvSpPr/>
                <p:nvPr/>
              </p:nvSpPr>
              <p:spPr>
                <a:xfrm flipH="1" rot="1320000">
                  <a:off x="8287200" y="3749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H="1" rot="1320000">
                  <a:off x="8398440" y="3650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H="1" rot="1320000">
                  <a:off x="8386560" y="350208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flipH="1" rot="1320000">
                  <a:off x="8297640" y="389808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flipH="1" rot="1320000">
                  <a:off x="8187120" y="3997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flipH="1" rot="1320000">
                  <a:off x="8119800" y="389808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H="1" rot="1320000">
                  <a:off x="8015400" y="4071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H="1" rot="1320000">
                  <a:off x="7907760" y="42447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5045400" y="4852440"/>
                <a:ext cx="829080" cy="451440"/>
                <a:chOff x="5045400" y="4852440"/>
                <a:chExt cx="829080" cy="451440"/>
              </a:xfrm>
            </p:grpSpPr>
            <p:sp>
              <p:nvSpPr>
                <p:cNvPr id="710" name=""/>
                <p:cNvSpPr/>
                <p:nvPr/>
              </p:nvSpPr>
              <p:spPr>
                <a:xfrm rot="18501600">
                  <a:off x="5260680" y="50241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rot="18501600">
                  <a:off x="5114880" y="4993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rot="18501600">
                  <a:off x="5051880" y="48585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rot="18501600">
                  <a:off x="5324400" y="51591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rot="18501600">
                  <a:off x="5470200" y="51897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rot="18501600">
                  <a:off x="5481000" y="50688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rot="18501600">
                  <a:off x="5657400" y="51681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rot="18501600">
                  <a:off x="5835960" y="5265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164360" y="5271120"/>
                <a:ext cx="892800" cy="294840"/>
                <a:chOff x="7164360" y="5271120"/>
                <a:chExt cx="892800" cy="294840"/>
              </a:xfrm>
            </p:grpSpPr>
            <p:sp>
              <p:nvSpPr>
                <p:cNvPr id="719" name=""/>
                <p:cNvSpPr/>
                <p:nvPr/>
              </p:nvSpPr>
              <p:spPr>
                <a:xfrm flipH="1" rot="5538600">
                  <a:off x="7758000" y="546228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flipH="1" rot="5538600">
                  <a:off x="7888320" y="5533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H="1" rot="5538600">
                  <a:off x="8024040" y="547308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H="1" rot="5538600">
                  <a:off x="7621560" y="55227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H="1" rot="5538600">
                  <a:off x="7491600" y="545148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H="1" rot="5538600">
                  <a:off x="7562160" y="53539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flipH="1" rot="5538600">
                  <a:off x="7363800" y="53143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H="1" rot="5538600">
                  <a:off x="7164720" y="52718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7180920" y="4371480"/>
                <a:ext cx="866880" cy="381960"/>
                <a:chOff x="7180920" y="4371480"/>
                <a:chExt cx="866880" cy="381960"/>
              </a:xfrm>
            </p:grpSpPr>
            <p:sp>
              <p:nvSpPr>
                <p:cNvPr id="728" name=""/>
                <p:cNvSpPr/>
                <p:nvPr/>
              </p:nvSpPr>
              <p:spPr>
                <a:xfrm rot="4866600">
                  <a:off x="7750080" y="4460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rot="4866600">
                  <a:off x="7871400" y="4373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rot="4866600">
                  <a:off x="8013240" y="44182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rot="4866600">
                  <a:off x="7607880" y="441432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rot="4866600">
                  <a:off x="7486560" y="4501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rot="4866600">
                  <a:off x="7567920" y="4591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rot="4866600">
                  <a:off x="7375680" y="46537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rot="4866600">
                  <a:off x="7182720" y="471888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6" name=""/>
            <p:cNvSpPr/>
            <p:nvPr/>
          </p:nvSpPr>
          <p:spPr>
            <a:xfrm flipH="1" rot="867000">
              <a:off x="4724280" y="3201480"/>
              <a:ext cx="2190960" cy="180180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7" name="" descr=""/>
            <p:cNvPicPr/>
            <p:nvPr/>
          </p:nvPicPr>
          <p:blipFill>
            <a:blip r:embed="rId5"/>
            <a:stretch/>
          </p:blipFill>
          <p:spPr>
            <a:xfrm>
              <a:off x="5334120" y="3105000"/>
              <a:ext cx="2619360" cy="360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8" name="" descr=""/>
          <p:cNvPicPr/>
          <p:nvPr/>
        </p:nvPicPr>
        <p:blipFill>
          <a:blip r:embed="rId6"/>
          <a:stretch/>
        </p:blipFill>
        <p:spPr>
          <a:xfrm>
            <a:off x="304920" y="99072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11"/>
          <a:stretch/>
        </p:blipFill>
        <p:spPr>
          <a:xfrm>
            <a:off x="3505320" y="2209680"/>
            <a:ext cx="1123920" cy="160020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12"/>
          <a:stretch/>
        </p:blipFill>
        <p:spPr>
          <a:xfrm>
            <a:off x="228600" y="2286000"/>
            <a:ext cx="1419120" cy="1371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250" autoRev="1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6" dur="250" autoRev="1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7" dur="250" autoRev="1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250" autoRev="1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3" dur="250" autoRev="1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4" dur="250" autoRev="1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3"/>
          <a:stretch/>
        </p:blipFill>
        <p:spPr>
          <a:xfrm>
            <a:off x="2971800" y="104760"/>
            <a:ext cx="5486400" cy="885960"/>
          </a:xfrm>
          <a:prstGeom prst="rect">
            <a:avLst/>
          </a:prstGeom>
          <a:ln w="0">
            <a:noFill/>
          </a:ln>
        </p:spPr>
      </p:pic>
      <p:grpSp>
        <p:nvGrpSpPr>
          <p:cNvPr id="747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748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749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753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757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762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767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771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775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779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4572000" y="166068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…… 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they Maya’s grandpar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785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786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790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794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7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800" name=""/>
          <p:cNvSpPr/>
          <p:nvPr/>
        </p:nvSpPr>
        <p:spPr>
          <a:xfrm rot="601200">
            <a:off x="3428640" y="2666520"/>
            <a:ext cx="1066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4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802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rot="601200">
            <a:off x="380520" y="2438280"/>
            <a:ext cx="106704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724280" y="15238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4534200" y="2956680"/>
            <a:ext cx="4083840" cy="3749040"/>
            <a:chOff x="4534200" y="2956680"/>
            <a:chExt cx="4083840" cy="3749040"/>
          </a:xfrm>
        </p:grpSpPr>
        <p:grpSp>
          <p:nvGrpSpPr>
            <p:cNvPr id="806" name=""/>
            <p:cNvGrpSpPr/>
            <p:nvPr/>
          </p:nvGrpSpPr>
          <p:grpSpPr>
            <a:xfrm>
              <a:off x="4940280" y="3146400"/>
              <a:ext cx="3677760" cy="2539800"/>
              <a:chOff x="4940280" y="3146400"/>
              <a:chExt cx="3677760" cy="2539800"/>
            </a:xfrm>
          </p:grpSpPr>
          <p:sp>
            <p:nvSpPr>
              <p:cNvPr id="807" name=""/>
              <p:cNvSpPr/>
              <p:nvPr/>
            </p:nvSpPr>
            <p:spPr>
              <a:xfrm>
                <a:off x="4940280" y="4322520"/>
                <a:ext cx="1679400" cy="109692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542280" y="467568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526080" y="3146400"/>
                <a:ext cx="2091960" cy="205812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"/>
              <p:cNvGrpSpPr/>
              <p:nvPr/>
            </p:nvGrpSpPr>
            <p:grpSpPr>
              <a:xfrm>
                <a:off x="5056920" y="3217320"/>
                <a:ext cx="266040" cy="898560"/>
                <a:chOff x="5056920" y="3217320"/>
                <a:chExt cx="266040" cy="89856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5123520" y="3484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056920" y="33508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123520" y="321732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056920" y="36172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123520" y="37508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224320" y="3684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256360" y="3884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290920" y="408420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9" name=""/>
              <p:cNvGrpSpPr/>
              <p:nvPr/>
            </p:nvGrpSpPr>
            <p:grpSpPr>
              <a:xfrm>
                <a:off x="7903440" y="3497400"/>
                <a:ext cx="531360" cy="783720"/>
                <a:chOff x="7903440" y="3497400"/>
                <a:chExt cx="531360" cy="783720"/>
              </a:xfrm>
            </p:grpSpPr>
            <p:sp>
              <p:nvSpPr>
                <p:cNvPr id="820" name=""/>
                <p:cNvSpPr/>
                <p:nvPr/>
              </p:nvSpPr>
              <p:spPr>
                <a:xfrm flipH="1" rot="1320000">
                  <a:off x="8287200" y="3749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H="1" rot="1320000">
                  <a:off x="8398440" y="3650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H="1" rot="1320000">
                  <a:off x="8386560" y="350208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H="1" rot="1320000">
                  <a:off x="8297640" y="389808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flipH="1" rot="1320000">
                  <a:off x="8187120" y="3997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H="1" rot="1320000">
                  <a:off x="8119800" y="389808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H="1" rot="1320000">
                  <a:off x="8015400" y="4071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 rot="1320000">
                  <a:off x="7907760" y="42447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8" name=""/>
              <p:cNvGrpSpPr/>
              <p:nvPr/>
            </p:nvGrpSpPr>
            <p:grpSpPr>
              <a:xfrm>
                <a:off x="5045400" y="4852440"/>
                <a:ext cx="829080" cy="451440"/>
                <a:chOff x="5045400" y="4852440"/>
                <a:chExt cx="829080" cy="451440"/>
              </a:xfrm>
            </p:grpSpPr>
            <p:sp>
              <p:nvSpPr>
                <p:cNvPr id="829" name=""/>
                <p:cNvSpPr/>
                <p:nvPr/>
              </p:nvSpPr>
              <p:spPr>
                <a:xfrm rot="18501600">
                  <a:off x="5260680" y="50241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rot="18501600">
                  <a:off x="5114880" y="4993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rot="18501600">
                  <a:off x="5051880" y="48585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rot="18501600">
                  <a:off x="5324400" y="51591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rot="18501600">
                  <a:off x="5470200" y="51897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rot="18501600">
                  <a:off x="5481000" y="50688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rot="18501600">
                  <a:off x="5657400" y="51681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rot="18501600">
                  <a:off x="5835960" y="5265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7164360" y="5271120"/>
                <a:ext cx="892800" cy="294840"/>
                <a:chOff x="7164360" y="5271120"/>
                <a:chExt cx="892800" cy="294840"/>
              </a:xfrm>
            </p:grpSpPr>
            <p:sp>
              <p:nvSpPr>
                <p:cNvPr id="838" name=""/>
                <p:cNvSpPr/>
                <p:nvPr/>
              </p:nvSpPr>
              <p:spPr>
                <a:xfrm flipH="1" rot="5538600">
                  <a:off x="7758000" y="546228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 rot="5538600">
                  <a:off x="7888320" y="5533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 rot="5538600">
                  <a:off x="8024040" y="547308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 rot="5538600">
                  <a:off x="7621560" y="55227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H="1" rot="5538600">
                  <a:off x="7491600" y="545148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H="1" rot="5538600">
                  <a:off x="7562160" y="53539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H="1" rot="5538600">
                  <a:off x="7363800" y="53143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H="1" rot="5538600">
                  <a:off x="7164720" y="52718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7180920" y="4371480"/>
                <a:ext cx="866880" cy="381960"/>
                <a:chOff x="7180920" y="4371480"/>
                <a:chExt cx="866880" cy="381960"/>
              </a:xfrm>
            </p:grpSpPr>
            <p:sp>
              <p:nvSpPr>
                <p:cNvPr id="847" name=""/>
                <p:cNvSpPr/>
                <p:nvPr/>
              </p:nvSpPr>
              <p:spPr>
                <a:xfrm rot="4866600">
                  <a:off x="7750080" y="4460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rot="4866600">
                  <a:off x="7871400" y="4373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rot="4866600">
                  <a:off x="8013240" y="44182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rot="4866600">
                  <a:off x="7607880" y="441432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rot="4866600">
                  <a:off x="7486560" y="4501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rot="4866600">
                  <a:off x="7567920" y="4591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rot="4866600">
                  <a:off x="7375680" y="465372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rot="4866600">
                  <a:off x="7182720" y="471888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5" name=""/>
            <p:cNvSpPr/>
            <p:nvPr/>
          </p:nvSpPr>
          <p:spPr>
            <a:xfrm flipH="1" rot="867000">
              <a:off x="4724280" y="3201480"/>
              <a:ext cx="2190960" cy="180180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6" name="" descr=""/>
            <p:cNvPicPr/>
            <p:nvPr/>
          </p:nvPicPr>
          <p:blipFill>
            <a:blip r:embed="rId5"/>
            <a:stretch/>
          </p:blipFill>
          <p:spPr>
            <a:xfrm>
              <a:off x="5334120" y="3105000"/>
              <a:ext cx="2619360" cy="360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7" name="" descr=""/>
          <p:cNvPicPr/>
          <p:nvPr/>
        </p:nvPicPr>
        <p:blipFill>
          <a:blip r:embed="rId6"/>
          <a:stretch/>
        </p:blipFill>
        <p:spPr>
          <a:xfrm>
            <a:off x="380880" y="91440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7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8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9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10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11"/>
          <a:stretch/>
        </p:blipFill>
        <p:spPr>
          <a:xfrm>
            <a:off x="228600" y="2009880"/>
            <a:ext cx="1495440" cy="157140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/>
          <p:cNvPicPr/>
          <p:nvPr/>
        </p:nvPicPr>
        <p:blipFill>
          <a:blip r:embed="rId12"/>
          <a:stretch/>
        </p:blipFill>
        <p:spPr>
          <a:xfrm>
            <a:off x="3162240" y="2362320"/>
            <a:ext cx="1562040" cy="1533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" dur="250" autoRev="1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9" dur="250" autoRev="1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0" dur="250" autoRev="1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797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797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250" autoRev="1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6" dur="250" autoRev="1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7" dur="250" autoRev="1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798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4648320" cy="372456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3657600" y="2971800"/>
            <a:ext cx="685800" cy="83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rot="601200">
            <a:off x="339480" y="2787480"/>
            <a:ext cx="761760" cy="9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rot="601200">
            <a:off x="1106640" y="3835440"/>
            <a:ext cx="725400" cy="83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rot="601200">
            <a:off x="3016080" y="3855960"/>
            <a:ext cx="762120" cy="838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rot="20620800">
            <a:off x="3352320" y="2133360"/>
            <a:ext cx="533520" cy="76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rot="601200">
            <a:off x="1023840" y="2209320"/>
            <a:ext cx="68580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3"/>
          <a:stretch/>
        </p:blipFill>
        <p:spPr>
          <a:xfrm>
            <a:off x="266760" y="1600200"/>
            <a:ext cx="4305240" cy="331488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4"/>
          <a:stretch/>
        </p:blipFill>
        <p:spPr>
          <a:xfrm>
            <a:off x="2971800" y="152280"/>
            <a:ext cx="5486400" cy="885960"/>
          </a:xfrm>
          <a:prstGeom prst="rect">
            <a:avLst/>
          </a:prstGeom>
          <a:ln w="0">
            <a:noFill/>
          </a:ln>
        </p:spPr>
      </p:pic>
      <p:grpSp>
        <p:nvGrpSpPr>
          <p:cNvPr id="873" name=""/>
          <p:cNvGrpSpPr/>
          <p:nvPr/>
        </p:nvGrpSpPr>
        <p:grpSpPr>
          <a:xfrm>
            <a:off x="8534520" y="360"/>
            <a:ext cx="609120" cy="1904760"/>
            <a:chOff x="8534520" y="360"/>
            <a:chExt cx="609120" cy="1904760"/>
          </a:xfrm>
        </p:grpSpPr>
        <p:grpSp>
          <p:nvGrpSpPr>
            <p:cNvPr id="874" name=""/>
            <p:cNvGrpSpPr/>
            <p:nvPr/>
          </p:nvGrpSpPr>
          <p:grpSpPr>
            <a:xfrm>
              <a:off x="8534520" y="1219680"/>
              <a:ext cx="609120" cy="685440"/>
              <a:chOff x="8534520" y="1219680"/>
              <a:chExt cx="609120" cy="685440"/>
            </a:xfrm>
          </p:grpSpPr>
          <p:sp>
            <p:nvSpPr>
              <p:cNvPr id="875" name=""/>
              <p:cNvSpPr/>
              <p:nvPr/>
            </p:nvSpPr>
            <p:spPr>
              <a:xfrm rot="10800000">
                <a:off x="8534520" y="121968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0800000">
                <a:off x="8604720" y="125856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10800000">
                <a:off x="8759520" y="14929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8534520" y="609840"/>
              <a:ext cx="609120" cy="685440"/>
              <a:chOff x="8534520" y="609840"/>
              <a:chExt cx="609120" cy="685440"/>
            </a:xfrm>
          </p:grpSpPr>
          <p:sp>
            <p:nvSpPr>
              <p:cNvPr id="879" name=""/>
              <p:cNvSpPr/>
              <p:nvPr/>
            </p:nvSpPr>
            <p:spPr>
              <a:xfrm rot="10800000">
                <a:off x="8534520" y="6098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10800000">
                <a:off x="8604720" y="648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0800000">
                <a:off x="8759520" y="8830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8534520" y="360"/>
              <a:ext cx="609120" cy="685440"/>
              <a:chOff x="8534520" y="360"/>
              <a:chExt cx="609120" cy="685440"/>
            </a:xfrm>
          </p:grpSpPr>
          <p:sp>
            <p:nvSpPr>
              <p:cNvPr id="883" name=""/>
              <p:cNvSpPr/>
              <p:nvPr/>
            </p:nvSpPr>
            <p:spPr>
              <a:xfrm rot="10800000">
                <a:off x="8534520" y="3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0800000">
                <a:off x="8604720" y="3924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10800000">
                <a:off x="8759520" y="2736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6" name=""/>
          <p:cNvSpPr/>
          <p:nvPr/>
        </p:nvSpPr>
        <p:spPr>
          <a:xfrm>
            <a:off x="2895480" y="757080"/>
            <a:ext cx="5567400" cy="658800"/>
          </a:xfrm>
          <a:custGeom>
            <a:avLst/>
            <a:gdLst/>
            <a:ahLst/>
            <a:rect l="l" t="t" r="r" b="b"/>
            <a:pathLst>
              <a:path w="10929" h="1294">
                <a:moveTo>
                  <a:pt x="257" y="1028"/>
                </a:moveTo>
                <a:cubicBezTo>
                  <a:pt x="0" y="0"/>
                  <a:pt x="2163" y="1101"/>
                  <a:pt x="3037" y="1029"/>
                </a:cubicBezTo>
                <a:cubicBezTo>
                  <a:pt x="3911" y="957"/>
                  <a:pt x="4639" y="564"/>
                  <a:pt x="5500" y="594"/>
                </a:cubicBezTo>
                <a:cubicBezTo>
                  <a:pt x="6361" y="624"/>
                  <a:pt x="7298" y="1203"/>
                  <a:pt x="8203" y="1209"/>
                </a:cubicBezTo>
                <a:cubicBezTo>
                  <a:pt x="9108" y="1215"/>
                  <a:pt x="10852" y="925"/>
                  <a:pt x="10929" y="630"/>
                </a:cubicBezTo>
                <a:cubicBezTo>
                  <a:pt x="10235" y="1067"/>
                  <a:pt x="9585" y="774"/>
                  <a:pt x="9033" y="877"/>
                </a:cubicBezTo>
                <a:cubicBezTo>
                  <a:pt x="8481" y="980"/>
                  <a:pt x="8049" y="1294"/>
                  <a:pt x="7614" y="1250"/>
                </a:cubicBezTo>
                <a:cubicBezTo>
                  <a:pt x="7179" y="1206"/>
                  <a:pt x="6814" y="686"/>
                  <a:pt x="6426" y="615"/>
                </a:cubicBezTo>
                <a:cubicBezTo>
                  <a:pt x="6038" y="544"/>
                  <a:pt x="5677" y="756"/>
                  <a:pt x="5290" y="825"/>
                </a:cubicBezTo>
                <a:cubicBezTo>
                  <a:pt x="4904" y="894"/>
                  <a:pt x="4541" y="1025"/>
                  <a:pt x="4106" y="1029"/>
                </a:cubicBezTo>
                <a:cubicBezTo>
                  <a:pt x="3670" y="1033"/>
                  <a:pt x="3157" y="884"/>
                  <a:pt x="2681" y="849"/>
                </a:cubicBezTo>
                <a:cubicBezTo>
                  <a:pt x="2204" y="814"/>
                  <a:pt x="1649" y="791"/>
                  <a:pt x="1245" y="821"/>
                </a:cubicBezTo>
                <a:cubicBezTo>
                  <a:pt x="841" y="851"/>
                  <a:pt x="347" y="553"/>
                  <a:pt x="257" y="1028"/>
                </a:cubicBezTo>
                <a:close/>
              </a:path>
            </a:pathLst>
          </a:custGeom>
          <a:solidFill>
            <a:srgbClr val="00ccff"/>
          </a:solidFill>
          <a:ln w="19080">
            <a:solidFill>
              <a:srgbClr val="000080"/>
            </a:solidFill>
            <a:round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7935840" y="4952880"/>
            <a:ext cx="1208160" cy="1904760"/>
            <a:chOff x="7935840" y="4952880"/>
            <a:chExt cx="1208160" cy="1904760"/>
          </a:xfrm>
        </p:grpSpPr>
        <p:sp>
          <p:nvSpPr>
            <p:cNvPr id="888" name=""/>
            <p:cNvSpPr/>
            <p:nvPr/>
          </p:nvSpPr>
          <p:spPr>
            <a:xfrm rot="10800000">
              <a:off x="8302320" y="604800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0800000">
              <a:off x="8461440" y="609552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10800000">
              <a:off x="7935840" y="495288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10800000">
              <a:off x="8071920" y="499392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609480" y="5859360"/>
            <a:ext cx="1889280" cy="1090080"/>
            <a:chOff x="609480" y="5859360"/>
            <a:chExt cx="1889280" cy="1090080"/>
          </a:xfrm>
        </p:grpSpPr>
        <p:sp>
          <p:nvSpPr>
            <p:cNvPr id="893" name=""/>
            <p:cNvSpPr/>
            <p:nvPr/>
          </p:nvSpPr>
          <p:spPr>
            <a:xfrm>
              <a:off x="60948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1168200">
              <a:off x="68544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1392000">
              <a:off x="137124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3200400" y="5859360"/>
            <a:ext cx="1889280" cy="1090080"/>
            <a:chOff x="3200400" y="5859360"/>
            <a:chExt cx="1889280" cy="1090080"/>
          </a:xfrm>
        </p:grpSpPr>
        <p:sp>
          <p:nvSpPr>
            <p:cNvPr id="897" name=""/>
            <p:cNvSpPr/>
            <p:nvPr/>
          </p:nvSpPr>
          <p:spPr>
            <a:xfrm>
              <a:off x="3200400" y="61722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1168200">
              <a:off x="3276360" y="60195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1392000">
              <a:off x="3962160" y="60336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0" y="360"/>
            <a:ext cx="1208160" cy="1904760"/>
            <a:chOff x="0" y="360"/>
            <a:chExt cx="1208160" cy="1904760"/>
          </a:xfrm>
        </p:grpSpPr>
        <p:sp>
          <p:nvSpPr>
            <p:cNvPr id="901" name=""/>
            <p:cNvSpPr/>
            <p:nvPr/>
          </p:nvSpPr>
          <p:spPr>
            <a:xfrm>
              <a:off x="360" y="360"/>
              <a:ext cx="841320" cy="80964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0" y="360"/>
              <a:ext cx="682560" cy="76212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440" y="720720"/>
              <a:ext cx="1206720" cy="1184400"/>
            </a:xfrm>
            <a:prstGeom prst="flowChartDelay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800" y="714600"/>
              <a:ext cx="1070280" cy="1149480"/>
            </a:xfrm>
            <a:prstGeom prst="flowChartDelay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4724280" y="152388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We …… a big famil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0" y="4952880"/>
            <a:ext cx="609120" cy="1904760"/>
            <a:chOff x="0" y="4952880"/>
            <a:chExt cx="609120" cy="1904760"/>
          </a:xfrm>
        </p:grpSpPr>
        <p:grpSp>
          <p:nvGrpSpPr>
            <p:cNvPr id="907" name=""/>
            <p:cNvGrpSpPr/>
            <p:nvPr/>
          </p:nvGrpSpPr>
          <p:grpSpPr>
            <a:xfrm>
              <a:off x="0" y="4952880"/>
              <a:ext cx="609120" cy="685440"/>
              <a:chOff x="0" y="4952880"/>
              <a:chExt cx="609120" cy="685440"/>
            </a:xfrm>
          </p:grpSpPr>
          <p:sp>
            <p:nvSpPr>
              <p:cNvPr id="908" name=""/>
              <p:cNvSpPr/>
              <p:nvPr/>
            </p:nvSpPr>
            <p:spPr>
              <a:xfrm>
                <a:off x="1440" y="497232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495288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0" y="495288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0" y="5562720"/>
              <a:ext cx="609120" cy="685440"/>
              <a:chOff x="0" y="5562720"/>
              <a:chExt cx="609120" cy="685440"/>
            </a:xfrm>
          </p:grpSpPr>
          <p:sp>
            <p:nvSpPr>
              <p:cNvPr id="912" name=""/>
              <p:cNvSpPr/>
              <p:nvPr/>
            </p:nvSpPr>
            <p:spPr>
              <a:xfrm>
                <a:off x="1440" y="558216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0" y="556272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56272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0" y="6172200"/>
              <a:ext cx="609120" cy="685440"/>
              <a:chOff x="0" y="6172200"/>
              <a:chExt cx="609120" cy="685440"/>
            </a:xfrm>
          </p:grpSpPr>
          <p:sp>
            <p:nvSpPr>
              <p:cNvPr id="916" name=""/>
              <p:cNvSpPr/>
              <p:nvPr/>
            </p:nvSpPr>
            <p:spPr>
              <a:xfrm>
                <a:off x="1440" y="6191640"/>
                <a:ext cx="607680" cy="6660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0" y="6172200"/>
                <a:ext cx="538920" cy="646560"/>
              </a:xfrm>
              <a:prstGeom prst="flowChartDelay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6172200"/>
                <a:ext cx="384120" cy="412200"/>
              </a:xfrm>
              <a:prstGeom prst="flowChartDelay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9" name=""/>
          <p:cNvSpPr txBox="1"/>
          <p:nvPr/>
        </p:nvSpPr>
        <p:spPr>
          <a:xfrm>
            <a:off x="1905120" y="1752480"/>
            <a:ext cx="1218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m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1828800" y="2590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2133720" y="3352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Forte"/>
              </a:rPr>
              <a:t>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Forte"/>
              <a:ea typeface="Forte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5"/>
          <a:stretch/>
        </p:blipFill>
        <p:spPr>
          <a:xfrm rot="20784000">
            <a:off x="1981080" y="5181120"/>
            <a:ext cx="1582920" cy="1219320"/>
          </a:xfrm>
          <a:prstGeom prst="rect">
            <a:avLst/>
          </a:prstGeom>
          <a:ln w="0">
            <a:noFill/>
          </a:ln>
        </p:spPr>
      </p:pic>
      <p:sp>
        <p:nvSpPr>
          <p:cNvPr id="923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85800" cy="533520"/>
          </a:xfrm>
          <a:custGeom>
            <a:avLst/>
            <a:gdLst>
              <a:gd name="textAreaLeft" fmla="*/ 149040 w 685800"/>
              <a:gd name="textAreaRight" fmla="*/ 536760 w 685800"/>
              <a:gd name="textAreaTop" fmla="*/ 156960 h 533520"/>
              <a:gd name="textAreaBottom" fmla="*/ 376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6356"/>
                </a:moveTo>
                <a:lnTo>
                  <a:pt x="10186" y="6356"/>
                </a:lnTo>
                <a:lnTo>
                  <a:pt x="10186" y="0"/>
                </a:lnTo>
                <a:lnTo>
                  <a:pt x="21600" y="10800"/>
                </a:lnTo>
                <a:lnTo>
                  <a:pt x="10186" y="21600"/>
                </a:lnTo>
                <a:lnTo>
                  <a:pt x="10186" y="15244"/>
                </a:lnTo>
                <a:lnTo>
                  <a:pt x="0" y="15244"/>
                </a:lnTo>
                <a:lnTo>
                  <a:pt x="4697" y="10800"/>
                </a:lnTo>
                <a:lnTo>
                  <a:pt x="0" y="635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943600" y="13716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4534200" y="2804040"/>
            <a:ext cx="4083840" cy="3749040"/>
            <a:chOff x="4534200" y="2804040"/>
            <a:chExt cx="4083840" cy="3749040"/>
          </a:xfrm>
        </p:grpSpPr>
        <p:grpSp>
          <p:nvGrpSpPr>
            <p:cNvPr id="926" name=""/>
            <p:cNvGrpSpPr/>
            <p:nvPr/>
          </p:nvGrpSpPr>
          <p:grpSpPr>
            <a:xfrm>
              <a:off x="4940280" y="2993760"/>
              <a:ext cx="3677760" cy="2539800"/>
              <a:chOff x="4940280" y="2993760"/>
              <a:chExt cx="3677760" cy="2539800"/>
            </a:xfrm>
          </p:grpSpPr>
          <p:sp>
            <p:nvSpPr>
              <p:cNvPr id="927" name=""/>
              <p:cNvSpPr/>
              <p:nvPr/>
            </p:nvSpPr>
            <p:spPr>
              <a:xfrm>
                <a:off x="4940280" y="4169520"/>
                <a:ext cx="1679400" cy="1096560"/>
              </a:xfrm>
              <a:custGeom>
                <a:avLst/>
                <a:gdLst/>
                <a:ahLst/>
                <a:rect l="l" t="t" r="r" b="b"/>
                <a:pathLst>
                  <a:path w="1208" h="734">
                    <a:moveTo>
                      <a:pt x="1177" y="629"/>
                    </a:moveTo>
                    <a:cubicBezTo>
                      <a:pt x="1146" y="526"/>
                      <a:pt x="724" y="170"/>
                      <a:pt x="547" y="85"/>
                    </a:cubicBezTo>
                    <a:cubicBezTo>
                      <a:pt x="370" y="0"/>
                      <a:pt x="231" y="6"/>
                      <a:pt x="114" y="117"/>
                    </a:cubicBezTo>
                    <a:cubicBezTo>
                      <a:pt x="33" y="195"/>
                      <a:pt x="0" y="360"/>
                      <a:pt x="33" y="456"/>
                    </a:cubicBezTo>
                    <a:cubicBezTo>
                      <a:pt x="66" y="552"/>
                      <a:pt x="196" y="654"/>
                      <a:pt x="312" y="694"/>
                    </a:cubicBezTo>
                    <a:cubicBezTo>
                      <a:pt x="428" y="734"/>
                      <a:pt x="587" y="707"/>
                      <a:pt x="731" y="697"/>
                    </a:cubicBezTo>
                    <a:cubicBezTo>
                      <a:pt x="876" y="686"/>
                      <a:pt x="1208" y="730"/>
                      <a:pt x="1177" y="6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542280" y="4523040"/>
                <a:ext cx="1824120" cy="1010520"/>
              </a:xfrm>
              <a:custGeom>
                <a:avLst/>
                <a:gdLst/>
                <a:ahLst/>
                <a:rect l="l" t="t" r="r" b="b"/>
                <a:pathLst>
                  <a:path w="1312" h="592">
                    <a:moveTo>
                      <a:pt x="64" y="258"/>
                    </a:moveTo>
                    <a:cubicBezTo>
                      <a:pt x="128" y="186"/>
                      <a:pt x="640" y="36"/>
                      <a:pt x="832" y="18"/>
                    </a:cubicBezTo>
                    <a:cubicBezTo>
                      <a:pt x="1024" y="0"/>
                      <a:pt x="1159" y="73"/>
                      <a:pt x="1218" y="151"/>
                    </a:cubicBezTo>
                    <a:cubicBezTo>
                      <a:pt x="1275" y="230"/>
                      <a:pt x="1312" y="382"/>
                      <a:pt x="1187" y="487"/>
                    </a:cubicBezTo>
                    <a:cubicBezTo>
                      <a:pt x="1062" y="592"/>
                      <a:pt x="965" y="587"/>
                      <a:pt x="832" y="577"/>
                    </a:cubicBezTo>
                    <a:cubicBezTo>
                      <a:pt x="716" y="571"/>
                      <a:pt x="576" y="503"/>
                      <a:pt x="448" y="450"/>
                    </a:cubicBezTo>
                    <a:cubicBezTo>
                      <a:pt x="320" y="397"/>
                      <a:pt x="0" y="330"/>
                      <a:pt x="64" y="2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31372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526080" y="2993760"/>
                <a:ext cx="2091960" cy="2057760"/>
              </a:xfrm>
              <a:custGeom>
                <a:avLst/>
                <a:gdLst/>
                <a:ahLst/>
                <a:rect l="l" t="t" r="r" b="b"/>
                <a:pathLst>
                  <a:path w="1505" h="1480">
                    <a:moveTo>
                      <a:pt x="62" y="1251"/>
                    </a:moveTo>
                    <a:cubicBezTo>
                      <a:pt x="134" y="1067"/>
                      <a:pt x="396" y="539"/>
                      <a:pt x="593" y="336"/>
                    </a:cubicBezTo>
                    <a:cubicBezTo>
                      <a:pt x="790" y="133"/>
                      <a:pt x="1094" y="0"/>
                      <a:pt x="1245" y="31"/>
                    </a:cubicBezTo>
                    <a:cubicBezTo>
                      <a:pt x="1396" y="62"/>
                      <a:pt x="1505" y="202"/>
                      <a:pt x="1466" y="369"/>
                    </a:cubicBezTo>
                    <a:cubicBezTo>
                      <a:pt x="1427" y="536"/>
                      <a:pt x="1226" y="852"/>
                      <a:pt x="1008" y="1031"/>
                    </a:cubicBezTo>
                    <a:cubicBezTo>
                      <a:pt x="790" y="1210"/>
                      <a:pt x="316" y="1406"/>
                      <a:pt x="158" y="1443"/>
                    </a:cubicBezTo>
                    <a:cubicBezTo>
                      <a:pt x="0" y="1480"/>
                      <a:pt x="6" y="1435"/>
                      <a:pt x="62" y="12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566768">
                      <a:alpha val="5098"/>
                    </a:srgbClr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0" name=""/>
              <p:cNvGrpSpPr/>
              <p:nvPr/>
            </p:nvGrpSpPr>
            <p:grpSpPr>
              <a:xfrm>
                <a:off x="5056920" y="3064680"/>
                <a:ext cx="266040" cy="898200"/>
                <a:chOff x="5056920" y="3064680"/>
                <a:chExt cx="266040" cy="89820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5123520" y="33314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5056920" y="31978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5123520" y="30646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5056920" y="346464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5123520" y="35982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5224320" y="35312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256360" y="37314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5290920" y="393120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7903440" y="3344760"/>
                <a:ext cx="531000" cy="783360"/>
                <a:chOff x="7903440" y="3344760"/>
                <a:chExt cx="531000" cy="783360"/>
              </a:xfrm>
            </p:grpSpPr>
            <p:sp>
              <p:nvSpPr>
                <p:cNvPr id="940" name=""/>
                <p:cNvSpPr/>
                <p:nvPr/>
              </p:nvSpPr>
              <p:spPr>
                <a:xfrm flipH="1" rot="1320000">
                  <a:off x="8287200" y="3596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 rot="1320000">
                  <a:off x="8398080" y="349812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 rot="1320000">
                  <a:off x="8386560" y="33494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 rot="1320000">
                  <a:off x="8297640" y="37454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 rot="1320000">
                  <a:off x="8187120" y="3844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 rot="1320000">
                  <a:off x="8119800" y="37454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 rot="1320000">
                  <a:off x="8015400" y="3918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 rot="1320000">
                  <a:off x="7907760" y="40917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5045400" y="4699440"/>
                <a:ext cx="829080" cy="451440"/>
                <a:chOff x="5045400" y="4699440"/>
                <a:chExt cx="829080" cy="451440"/>
              </a:xfrm>
            </p:grpSpPr>
            <p:sp>
              <p:nvSpPr>
                <p:cNvPr id="949" name=""/>
                <p:cNvSpPr/>
                <p:nvPr/>
              </p:nvSpPr>
              <p:spPr>
                <a:xfrm rot="18501600">
                  <a:off x="5260680" y="48711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rot="18501600">
                  <a:off x="5114880" y="48405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rot="18501600">
                  <a:off x="5051880" y="47055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rot="18501600">
                  <a:off x="5324400" y="500616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rot="18501600">
                  <a:off x="5470200" y="50367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rot="18501600">
                  <a:off x="5481000" y="491580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rot="18501600">
                  <a:off x="5657400" y="50151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rot="18501600">
                  <a:off x="5835960" y="511236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7164360" y="5117760"/>
                <a:ext cx="892800" cy="294480"/>
                <a:chOff x="7164360" y="5117760"/>
                <a:chExt cx="892800" cy="294480"/>
              </a:xfrm>
            </p:grpSpPr>
            <p:sp>
              <p:nvSpPr>
                <p:cNvPr id="958" name=""/>
                <p:cNvSpPr/>
                <p:nvPr/>
              </p:nvSpPr>
              <p:spPr>
                <a:xfrm flipH="1" rot="5538600">
                  <a:off x="7758000" y="53085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H="1" rot="5538600">
                  <a:off x="7888680" y="537984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H="1" rot="5538600">
                  <a:off x="8024040" y="531936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 rot="5538600">
                  <a:off x="7621560" y="5369040"/>
                  <a:ext cx="3132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 rot="5538600">
                  <a:off x="7491600" y="52977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H="1" rot="5538600">
                  <a:off x="7562160" y="520020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 rot="5538600">
                  <a:off x="7363800" y="5160960"/>
                  <a:ext cx="3132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H="1" rot="5538600">
                  <a:off x="7164720" y="51184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7180920" y="4218480"/>
                <a:ext cx="866880" cy="381600"/>
                <a:chOff x="7180920" y="4218480"/>
                <a:chExt cx="866880" cy="381600"/>
              </a:xfrm>
            </p:grpSpPr>
            <p:sp>
              <p:nvSpPr>
                <p:cNvPr id="967" name=""/>
                <p:cNvSpPr/>
                <p:nvPr/>
              </p:nvSpPr>
              <p:spPr>
                <a:xfrm rot="4866600">
                  <a:off x="7750080" y="43070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rot="4866600">
                  <a:off x="7871400" y="422064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rot="4866600">
                  <a:off x="8013240" y="426528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rot="4866600">
                  <a:off x="7607880" y="4261320"/>
                  <a:ext cx="3168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rot="4866600">
                  <a:off x="7486560" y="4348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rot="4866600">
                  <a:off x="7568280" y="443808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rot="4866600">
                  <a:off x="7375680" y="4500360"/>
                  <a:ext cx="3168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rot="4866600">
                  <a:off x="7182720" y="4565520"/>
                  <a:ext cx="320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cc"/>
                    </a:gs>
                    <a:gs pos="50000">
                      <a:srgbClr val="46005e"/>
                    </a:gs>
                    <a:gs pos="100000">
                      <a:srgbClr val="990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"/>
            <p:cNvSpPr/>
            <p:nvPr/>
          </p:nvSpPr>
          <p:spPr>
            <a:xfrm flipH="1" rot="867000">
              <a:off x="4724280" y="3048840"/>
              <a:ext cx="2190960" cy="1801440"/>
            </a:xfrm>
            <a:custGeom>
              <a:avLst/>
              <a:gdLst/>
              <a:ahLst/>
              <a:rect l="l" t="t" r="r" b="b"/>
              <a:pathLst>
                <a:path w="1487" h="1453">
                  <a:moveTo>
                    <a:pt x="62" y="1224"/>
                  </a:moveTo>
                  <a:cubicBezTo>
                    <a:pt x="134" y="1040"/>
                    <a:pt x="396" y="512"/>
                    <a:pt x="593" y="309"/>
                  </a:cubicBezTo>
                  <a:cubicBezTo>
                    <a:pt x="790" y="106"/>
                    <a:pt x="1103" y="0"/>
                    <a:pt x="1245" y="4"/>
                  </a:cubicBezTo>
                  <a:cubicBezTo>
                    <a:pt x="1387" y="8"/>
                    <a:pt x="1487" y="168"/>
                    <a:pt x="1448" y="335"/>
                  </a:cubicBezTo>
                  <a:cubicBezTo>
                    <a:pt x="1409" y="502"/>
                    <a:pt x="1223" y="824"/>
                    <a:pt x="1008" y="1004"/>
                  </a:cubicBezTo>
                  <a:cubicBezTo>
                    <a:pt x="793" y="1184"/>
                    <a:pt x="316" y="1379"/>
                    <a:pt x="158" y="1416"/>
                  </a:cubicBezTo>
                  <a:cubicBezTo>
                    <a:pt x="0" y="1453"/>
                    <a:pt x="6" y="1408"/>
                    <a:pt x="62" y="1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66768">
                    <a:alpha val="5098"/>
                  </a:srgbClr>
                </a:gs>
                <a:gs pos="100000">
                  <a:srgbClr val="bbe0e3"/>
                </a:gs>
              </a:gsLst>
              <a:lin ang="627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6" name="" descr=""/>
            <p:cNvPicPr/>
            <p:nvPr/>
          </p:nvPicPr>
          <p:blipFill>
            <a:blip r:embed="rId6"/>
            <a:stretch/>
          </p:blipFill>
          <p:spPr>
            <a:xfrm>
              <a:off x="5334120" y="2952720"/>
              <a:ext cx="2619360" cy="360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7" name="" descr=""/>
          <p:cNvPicPr/>
          <p:nvPr/>
        </p:nvPicPr>
        <p:blipFill>
          <a:blip r:embed="rId7"/>
          <a:stretch/>
        </p:blipFill>
        <p:spPr>
          <a:xfrm>
            <a:off x="228600" y="60948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978" name="" descr=""/>
          <p:cNvPicPr/>
          <p:nvPr/>
        </p:nvPicPr>
        <p:blipFill>
          <a:blip r:embed="rId8"/>
          <a:stretch/>
        </p:blipFill>
        <p:spPr>
          <a:xfrm>
            <a:off x="1371600" y="304920"/>
            <a:ext cx="1409760" cy="695160"/>
          </a:xfrm>
          <a:prstGeom prst="rect">
            <a:avLst/>
          </a:prstGeom>
          <a:ln w="0">
            <a:noFill/>
          </a:ln>
        </p:spPr>
      </p:pic>
      <p:pic>
        <p:nvPicPr>
          <p:cNvPr id="979" name="" descr=""/>
          <p:cNvPicPr/>
          <p:nvPr/>
        </p:nvPicPr>
        <p:blipFill>
          <a:blip r:embed="rId9"/>
          <a:stretch/>
        </p:blipFill>
        <p:spPr>
          <a:xfrm>
            <a:off x="3657600" y="1219320"/>
            <a:ext cx="1314360" cy="76176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/>
          <p:cNvPicPr/>
          <p:nvPr/>
        </p:nvPicPr>
        <p:blipFill>
          <a:blip r:embed="rId10"/>
          <a:stretch/>
        </p:blipFill>
        <p:spPr>
          <a:xfrm>
            <a:off x="8001000" y="762120"/>
            <a:ext cx="723960" cy="136188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11"/>
          <a:stretch/>
        </p:blipFill>
        <p:spPr>
          <a:xfrm>
            <a:off x="8153280" y="4505400"/>
            <a:ext cx="723960" cy="1361880"/>
          </a:xfrm>
          <a:prstGeom prst="rect">
            <a:avLst/>
          </a:prstGeom>
          <a:ln w="0">
            <a:noFill/>
          </a:ln>
        </p:spPr>
      </p:pic>
      <p:grpSp>
        <p:nvGrpSpPr>
          <p:cNvPr id="982" name=""/>
          <p:cNvGrpSpPr/>
          <p:nvPr/>
        </p:nvGrpSpPr>
        <p:grpSpPr>
          <a:xfrm>
            <a:off x="2743200" y="4259160"/>
            <a:ext cx="1889280" cy="1090080"/>
            <a:chOff x="2743200" y="4259160"/>
            <a:chExt cx="1889280" cy="1090080"/>
          </a:xfrm>
        </p:grpSpPr>
        <p:sp>
          <p:nvSpPr>
            <p:cNvPr id="983" name=""/>
            <p:cNvSpPr/>
            <p:nvPr/>
          </p:nvSpPr>
          <p:spPr>
            <a:xfrm>
              <a:off x="2743200" y="4572000"/>
              <a:ext cx="1676160" cy="609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168200">
              <a:off x="2819160" y="4419360"/>
              <a:ext cx="106704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1392000">
              <a:off x="3504960" y="4433400"/>
              <a:ext cx="1022400" cy="74412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806400" y="4411440"/>
            <a:ext cx="1889280" cy="1090800"/>
            <a:chOff x="806400" y="4411440"/>
            <a:chExt cx="1889280" cy="1090800"/>
          </a:xfrm>
        </p:grpSpPr>
        <p:sp>
          <p:nvSpPr>
            <p:cNvPr id="987" name=""/>
            <p:cNvSpPr/>
            <p:nvPr/>
          </p:nvSpPr>
          <p:spPr>
            <a:xfrm>
              <a:off x="806400" y="4724640"/>
              <a:ext cx="1676160" cy="609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1168200">
              <a:off x="882000" y="4571640"/>
              <a:ext cx="1067040" cy="60984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1392000">
              <a:off x="1567800" y="4586040"/>
              <a:ext cx="1022400" cy="744480"/>
            </a:xfrm>
            <a:prstGeom prst="irregularSeal2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9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9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921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921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250" autoRev="1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7" dur="250" autoRev="1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8" dur="250" autoRev="1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919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919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250" autoRev="1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4" dur="250" autoRev="1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5" dur="250" autoRev="1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9:56:42Z</dcterms:created>
  <dc:creator>Gabi Sandru</dc:creator>
  <dc:description/>
  <dc:language>en-US</dc:language>
  <cp:lastModifiedBy>Gabi Sandru</cp:lastModifiedBy>
  <dcterms:modified xsi:type="dcterms:W3CDTF">2009-11-10T20:12:05Z</dcterms:modified>
  <cp:revision>4</cp:revision>
  <dc:subject>verb to be</dc:subject>
  <dc:title>Mister To be 2</dc:title>
</cp:coreProperties>
</file>